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D0D-94A5-4D80-B336-6D37A132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E91-F90F-4CFE-A10D-BE9F8798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9BC-137F-48B6-BE6E-63C93A37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210-37D8-4D4A-B0AF-9098F4AE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527B-CC53-43DE-856F-0D3A3EF7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F2B7-11F7-42A5-943E-383D5CB0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3A5C-2599-4568-964C-779DF54E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987B-D6F9-4221-A169-CB447A8F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DABD-4A01-4A1B-BF94-CD6A1648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D155-5A74-4A83-856E-7DE8B3BB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7CCC-1449-4EF1-A532-823852C4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9CF-89B7-4F36-9088-44498BA1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70B9-DA10-42C8-8F7D-1355FB78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6486-D4CD-4F82-895B-4EDA2391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1BE5-4CB2-47EC-A7A7-1CBB7F97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3B6E-4550-4130-B3E9-D695A840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A03A-2DB7-47FC-A08F-E4B48285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56F-385E-4314-9BC7-8EC49579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EBC-6560-460D-ABB1-AF5EAB9B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DC4-470B-41A9-8AEC-A669A5C4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31D-9145-4EAE-B3D6-176B115A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2E9-56BD-4A31-8F14-2BDA3747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57C-154C-418D-90DD-64CFC13B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D9E-917C-4266-AD75-87C5BA72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A46D-63AD-4A8E-B7D9-E0D4764E87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6155-1B81-4EFA-B7CD-B204F00E0B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714320"/>
            <a:ext cx="450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 rot="222000">
            <a:off x="2207520" y="3357000"/>
            <a:ext cx="45003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268280" y="225360"/>
            <a:ext cx="7534440" cy="99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85600" y="1428840"/>
            <a:ext cx="6900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tineydgers.at.ua/sova3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endem.ru/uploads/posts/2010-09/1285569710_osennie-listy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burla.su/uploads/posts/2010-05/1274360367_poslednii_zvonok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Мои документы\Мои рисунки\images сова.jpeg"/>
          <p:cNvPicPr/>
          <p:nvPr/>
        </p:nvPicPr>
        <p:blipFill>
          <a:blip r:embed="rId2"/>
          <a:stretch/>
        </p:blipFill>
        <p:spPr>
          <a:xfrm>
            <a:off x="642960" y="12859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571680" y="2357280"/>
            <a:ext cx="1143000" cy="744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4"/>
          <a:stretch/>
        </p:blipFill>
        <p:spPr>
          <a:xfrm>
            <a:off x="428760" y="3571920"/>
            <a:ext cx="1214280" cy="9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5"/>
          <a:stretch/>
        </p:blipFill>
        <p:spPr>
          <a:xfrm>
            <a:off x="642960" y="5072040"/>
            <a:ext cx="9288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6:53:57Z</dcterms:created>
  <dc:creator>Comp</dc:creator>
  <dc:description/>
  <dc:language>en-US</dc:language>
  <cp:lastModifiedBy>Comp</cp:lastModifiedBy>
  <dcterms:modified xsi:type="dcterms:W3CDTF">2011-07-29T17:01:45Z</dcterms:modified>
  <cp:revision>2</cp:revision>
  <dc:subject/>
  <dc:title>Слайд 1</dc:title>
</cp:coreProperties>
</file>