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22E2-9283-4CCE-B516-56CC005D6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A109-56F5-4DF6-8D18-7BA7160C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64F9-B24B-46E5-A556-4DD8865C7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576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72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38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576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72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7F38-E3A4-459E-BD29-7900B8EF4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0FCA-2F95-4307-A46E-4C7B2964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D140-D098-4018-BBA8-65F9F339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0F2D-005D-4044-9A4D-C3BC9B54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78F0-9E50-4A4F-ABAA-313FF93F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7405-7B22-437D-A3DA-65DCAB9E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8588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B481-39E9-43B0-9506-A39CAAA6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708A-1335-4682-ABDB-F2E0DBBE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70C1-4141-41D1-A903-3AF8254E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C607-1D83-4101-AC8C-C1FDECE0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FDD1-456B-4C0D-83F1-56393548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A8175-D294-4F68-B273-180D0AA6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B897-5AFE-4C19-9C52-F5E7E29EF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576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172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138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576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172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F75D-98FF-44EC-B38B-6780950D6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AE71-350A-45B7-A628-4C832EED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BE8F-EC73-410D-87DB-6147ABBB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8CFF-9983-4DCC-BA45-0A4F9147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8588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3E1B-30AE-4151-ABBA-EA9C7E19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EBD6-AB7D-47AA-8DE4-EA042692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F7D7-0531-4C25-9DF9-2759D862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2C43-076F-498E-AB12-5F2FE922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7AA0-95FE-4366-B590-81056ACA4A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C40F-5BC7-44C2-9CCE-3C84ECDBD7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9720" y="2071440"/>
            <a:ext cx="74581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43120" y="4071600"/>
            <a:ext cx="5129280" cy="22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Автор данного шаблона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Ермолаева Ирина Алексее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учитель информатики и математик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МОУ «Павловская сош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с.Павловс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Алтайский кра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781200" y="-6480"/>
            <a:ext cx="824040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642680" y="1357200"/>
            <a:ext cx="7358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caringbahlearningcentre.com.au/assets/images/calc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mathknowledge.com/images/custom/LOGO.GI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proshkolu.ru/content/media/pic/std/1000000/248000/247659-a3befaa6af58cffa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3" descr=""/>
          <p:cNvPicPr/>
          <p:nvPr/>
        </p:nvPicPr>
        <p:blipFill>
          <a:blip r:embed="rId2"/>
          <a:stretch/>
        </p:blipFill>
        <p:spPr>
          <a:xfrm>
            <a:off x="642960" y="1357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"/>
          <p:cNvPicPr/>
          <p:nvPr/>
        </p:nvPicPr>
        <p:blipFill>
          <a:blip r:embed="rId3"/>
          <a:stretch/>
        </p:blipFill>
        <p:spPr>
          <a:xfrm>
            <a:off x="500040" y="2571840"/>
            <a:ext cx="1143000" cy="785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d:\Мои документы\Мои рисунки\девочка.jpeg"/>
          <p:cNvPicPr/>
          <p:nvPr/>
        </p:nvPicPr>
        <p:blipFill>
          <a:blip r:embed="rId4"/>
          <a:stretch/>
        </p:blipFill>
        <p:spPr>
          <a:xfrm>
            <a:off x="500040" y="3786120"/>
            <a:ext cx="106524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6:21:29Z</dcterms:created>
  <dc:creator>Comp</dc:creator>
  <dc:description/>
  <dc:language>en-US</dc:language>
  <cp:lastModifiedBy>Comp</cp:lastModifiedBy>
  <dcterms:modified xsi:type="dcterms:W3CDTF">2011-07-28T11:14:53Z</dcterms:modified>
  <cp:revision>4</cp:revision>
  <dc:subject/>
  <dc:title>Слайд 1</dc:title>
</cp:coreProperties>
</file>