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892-096D-45B1-829A-4456F7DC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C51-B525-4AF5-BA5D-56013BE9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8AA-8636-4230-A7E9-2A411C38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4B9-DB33-4F8B-A4A4-4E584F22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71F2-CEF0-4F23-B394-B25DB4E5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EE2A-84F2-4A5F-BE72-E2A02A7C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CB08-A6D5-4BC9-8B6F-69F57070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A761-0406-4AD7-96C2-55CB73DD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E542-971A-4F2C-9F28-B8E286A6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B65F-D9DF-4401-9E80-44DDDFB8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1F73-E7D5-4599-9493-7BA11A8E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BAC-9FC2-49F5-A651-83331ADE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F2AC-93A0-4769-88F8-DFA6C1F7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DFC2-1E4B-439E-B20A-538CE191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74A9-C11C-4EDB-B873-3156DCB4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C0A0-EFA1-4C08-8461-5AC01237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FA5B-B99B-480D-9E77-5F3B158B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6F6-4D0D-48BF-994B-83B79EE3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575-364F-48D2-AA28-BC888DB1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D5F-37FE-4CB3-B8C6-08C845A3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694-F132-4C16-9923-BE50B7E9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7F7-6109-4A09-9091-7A21F759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E78-72CF-4F5F-8EF0-4A3D63F5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FB2-110E-432F-9189-C557F4F9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B855-20D0-4426-95CD-498093426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9F81-C952-44D9-B8C6-F911691DF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1571400"/>
            <a:ext cx="6286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485784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с.Павл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лтай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53880" y="-55440"/>
            <a:ext cx="7656480" cy="106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1356840"/>
            <a:ext cx="6943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files/quia/users/matmet/Graphics/Fancy-geometry-learn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39:28Z</dcterms:created>
  <dc:creator>Comp</dc:creator>
  <dc:description/>
  <dc:language>en-US</dc:language>
  <cp:lastModifiedBy>Comp</cp:lastModifiedBy>
  <dcterms:modified xsi:type="dcterms:W3CDTF">2011-07-28T11:15:35Z</dcterms:modified>
  <cp:revision>5</cp:revision>
  <dc:subject/>
  <dc:title>Слайд 1</dc:title>
</cp:coreProperties>
</file>